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ACA-449F-4E08-8B6F-38D6E426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848-D555-4EF5-AF82-A42C71E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FD9-CB3E-471F-8BE7-C177201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F4D-A6E6-45A0-9463-319FFBC7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27D-8954-47F6-AAB8-AF4D740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9FD-DF56-4786-A8E6-293FE6B3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678-3385-40B8-BC6A-211E157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F49-FD71-4C91-8045-345A42F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BFF-ECE6-48A7-828F-0F1E515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6B0-7659-4151-A816-F2A68FE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71F-57D5-44A0-AA48-1FD0665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435-DB51-4E6D-B1FC-884A003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E472-B4C7-4B9B-B19E-85A38DEE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3733560"/>
            <a:ext cx="914400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n case of an emergency such as a fire emergency as soon as possible notify the teacher stay calm and listen to the rules that the teacher has give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8191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As soon as you see a fire notif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Stay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Listen to the directions to which your teacher has give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Evacuate the building quickly but calm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ase of a fire emergency you must have a plan. Have drills and find easy ways to get out of the building. Have a first aid kit prepared a fire blanket and if so a fire extinguisher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Right click on image for save options."/>
          <p:cNvPicPr/>
          <p:nvPr/>
        </p:nvPicPr>
        <p:blipFill>
          <a:blip r:embed="rId1"/>
          <a:stretch/>
        </p:blipFill>
        <p:spPr>
          <a:xfrm>
            <a:off x="0" y="0"/>
            <a:ext cx="8988480" cy="323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0910600">
            <a:off x="228240" y="3047760"/>
            <a:ext cx="3324240" cy="221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519000">
            <a:off x="5333760" y="3047760"/>
            <a:ext cx="3543120" cy="218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743200" y="4497480"/>
            <a:ext cx="35053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ire: http://en.wikipedia.org/wiki/Iroquois_Theater_Fir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e&amp;Saftey :http://www.utexas.edu/safety/fire/safety/historic_fi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Right click on image for save options.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0:04:01Z</dcterms:created>
  <dc:creator> </dc:creator>
  <dc:description/>
  <dc:language>en-US</dc:language>
  <cp:lastModifiedBy> </cp:lastModifiedBy>
  <dcterms:modified xsi:type="dcterms:W3CDTF">2009-09-21T19:40:41Z</dcterms:modified>
  <cp:revision>3</cp:revision>
  <dc:subject/>
  <dc:title>Slide 1</dc:title>
</cp:coreProperties>
</file>